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db5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applications2_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4"/>
          <p:cNvSpPr/>
          <p:nvPr/>
        </p:nvSpPr>
        <p:spPr>
          <a:xfrm>
            <a:off x="0" y="378936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800000"/>
                </a:solidFill>
                <a:latin typeface="Tahoma"/>
              </a:rPr>
              <a:t>Οργανική Σύνθε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ahoma"/>
              </a:rPr>
              <a:t>4. ΕΦΑΡΜΟΓΕΣ Υποστηριζόμενων Αντιδραστηρ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applications2_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4"/>
          <p:cNvSpPr/>
          <p:nvPr/>
        </p:nvSpPr>
        <p:spPr>
          <a:xfrm>
            <a:off x="0" y="378936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800000"/>
                </a:solidFill>
                <a:latin typeface="Tahoma"/>
              </a:rPr>
              <a:t>Κατάλυ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ahoma"/>
              </a:rPr>
              <a:t>4. ΕΦΑΡΜΟΓΕΣ Υποστηριζόμενων Αντιδραστηρ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applications2_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0" y="3789360"/>
            <a:ext cx="24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800000"/>
                </a:solidFill>
                <a:latin typeface="Tahoma"/>
              </a:rPr>
              <a:t>Βιομηχανικές Εφαρμογέ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ahoma"/>
              </a:rPr>
              <a:t>4. ΕΦΑΡΜΟΓΕΣ Υποστηριζόμενων Αντιδραστηρ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applications2_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4"/>
          <p:cNvSpPr/>
          <p:nvPr/>
        </p:nvSpPr>
        <p:spPr>
          <a:xfrm>
            <a:off x="0" y="378936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800000"/>
                </a:solidFill>
                <a:latin typeface="Tahoma"/>
              </a:rPr>
              <a:t>Εκπαίδευση</a:t>
            </a:r>
            <a:r>
              <a:rPr b="1" lang="el-GR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ahoma"/>
              </a:rPr>
              <a:t>4. ΕΦΑΡΜΟΓΕΣ Υποστηριζόμενων Αντιδραστηρ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7" descr="Green_Tubes_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Text Box 10"/>
          <p:cNvSpPr/>
          <p:nvPr/>
        </p:nvSpPr>
        <p:spPr>
          <a:xfrm>
            <a:off x="0" y="0"/>
            <a:ext cx="93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ΕΙΣΑΓΩΓ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Green_Tubes_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0" y="0"/>
            <a:ext cx="93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Υποστηριζόμενα Αντιδραστήρ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support_background 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2"/>
          <p:cNvSpPr/>
          <p:nvPr/>
        </p:nvSpPr>
        <p:spPr>
          <a:xfrm>
            <a:off x="0" y="76500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ahoma"/>
              </a:rPr>
              <a:t>Ανόργα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2. ΥΠΟΣΤΡΩΜΑΤΑ Υποστηριζόμενων Αντιδραστηρ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support_background 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0" y="76500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ahoma"/>
              </a:rPr>
              <a:t>Οργανικ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2. ΥΠΟΣΤΡΩΜΑΤΑ Υποστηριζόμενων Αντιδραστηρ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support_background 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2. ΥΠΟΣΤΡΩΜΑΤΑ Υποστηριζόμενων Αντιδραστηρ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0" y="765000"/>
            <a:ext cx="2124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ahoma"/>
              </a:rPr>
              <a:t>Επιλογ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Υποστρώ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" descr="supported_reagents_background 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0"/>
          <p:cNvSpPr/>
          <p:nvPr/>
        </p:nvSpPr>
        <p:spPr>
          <a:xfrm>
            <a:off x="0" y="0"/>
            <a:ext cx="93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3. ΥΠΟΣΤΗΡΙΖΟΜΕΝΑ ΑΝΤΙΔΡΑΣΤΗΡ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supported_reagents_background 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3. ΠΑΡΑΣΚΕΥΕΣ Υποστηριζόμενων Αντιδραστηρ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7" descr="applications2_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0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ahoma"/>
              </a:rPr>
              <a:t>4. ΕΦΑΡΜΟΓΕΣ Υποστηριζόμενων Αντιδραστηρ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ΡΙΣΤΟΤΕΛΕΙΟ ΠΑΝΕΠΙΣΤΗΜΙΟ ΘΕΣΣΑΛΟΝΙΚΗΣ</a:t>
            </a: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ΜΗΜΑ ΧΗΜΕΙ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απανεπιστημιακό Διατμηματικό Πρόγραμμα Μεταπτυχιακών Σπουδ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ιδακτικής της Χημείας και Νέων Εκπαιδευτικών Τεχνολογ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2340000" y="3068640"/>
            <a:ext cx="439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ουρτίδου Σοφία, Σαπουνά Χριστίν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1116000" y="1916280"/>
            <a:ext cx="7201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Χημεία και Καθημερινή ζω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Η Πράσινη Προσέγγι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755640" y="2565360"/>
            <a:ext cx="813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Υποστηριζόμενα Αντιδραστήρια και Πράσινη Χημεία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1476360" y="6094440"/>
            <a:ext cx="669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αρούλης Απόστολος, Χατζηαντωνίου – Μαρούλη Κωνσταντίν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εσσαλονίκη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9" descr="ekswfullo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808360" y="3419640"/>
            <a:ext cx="356400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4"/>
          <p:cNvSpPr/>
          <p:nvPr/>
        </p:nvSpPr>
        <p:spPr>
          <a:xfrm>
            <a:off x="2340000" y="765000"/>
            <a:ext cx="64800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επιλογή του υποστρώματος γίνεται εξετάζοντας έναν από τους παρακάτω παράγοντε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ορώδε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 Έχει άμεση σχέση με την εκλεκτικότητα του  υποστηριζόμενου αντιδραστηρίο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χημική σύστασ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 Πρέπει να εξετάζεται η αλληλεπίδραση υποστρώματος και αντιδραστηρίο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πιφάνεια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 Μεγάλη επιφάνεια επαφής οδηγεί σε αύξηση των ενεργών περιοχών και σε αύξηση της απορρόφησης των αντιδραστηρίων πάνω σε αυτά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2195640" y="549360"/>
            <a:ext cx="6948360" cy="62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Πλεονεκτήματα Υποστηριζόμενων Αντιδραστηρίων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απομακρύνονται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εύκολα με διήθη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. με περίσσεια τους η αντίδραση γίνεται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ποσοτικά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 χωρίς να επηρεάζεται η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καθαρότητα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του τελικού προϊόντ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3. η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ανακύκλωση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των ανακτημένων αντιδραστηρίων είναι οικονομική, περιβαλλοντικά φιλική και αποτελεσματικ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ευκολία χειρισμού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ακριβών καταλυτών ή καταλυτών, που απαιτούν χρονοβόρες διαδικασίες προκατεργασίας και βρίσκουν εφαρμογή ως παράγοντες ροής ή σε αυτοματοποιημένες διαδικασίε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5. με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αλλαγή του υποστρώματο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μεταβάλλονται και οι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χημικές τους ιδιότητε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6. τοξικά, εκρηκτικά και επικίνδυνα αντιδραστήρια διαχειρίζονται με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μεγαλύτερη ασφάλεια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 όταν βρίσκονται ακινητοποιημένα σε στερεά υποστρώμα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7.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μεγαλύτερη εκλεκτικότητα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αντιδραστηρίων, καθόσον ακινητοποιούνται στο υπόστρωμα και δεν κυκλοφορούν ελεύθερ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2195640" y="549360"/>
            <a:ext cx="6948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Μειονεκτήματα Υποστηριζόμενων Αντιδραστηρίων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. ορισμένα αντιδραστήρια δεν αλληλεπιδρούν αποτελεσματικά με το υπόστρωμ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. δεν είναι αποδεδειγμένη η δυνατότητα ανακύκλωσης των αντιδραστηρίων, που βρίσκονται στερεωμένα στο υπόστρωμ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ατηρείται ελάττωση της ταχύτητας της αντίδρασης, εξαιτίας περιορισμών στη διάχυση του αντιδραστηρίου πάνω στην επιφάνεια του υποστρώματ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. υπάρχει μεγάλο κόστος παρασκευής σε κάποιες περιπτώσεις πολυμερών υποστρωμάτω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. κάτω από έντονες συνθήκες η σταθερότητα του υποστρώματος επηρεάζεται και συχνά ελαττώνετα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. το ίδιο το πολυμερές, όταν χρησιμοποιείται ως υπόστρωμα μπορεί να προκαλέσει περαιτέρω παράπλευρες αντιδράσεις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2195640" y="1062000"/>
            <a:ext cx="648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τους παράγοντες που καθορίζουν τη δραστικότητα των υποστηριζόμενων αντιδραστηρίων ανήκει και η μέθοδος παρασκευής του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Οι τεχνικές που εφαρμόζονται για την προετοιμασία των υποστηριζόμενων αντιδραστηρίων είναι απλέ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ξάτμι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νάμιξη / άλε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Ξήραν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Κατακάθι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ροσρόφη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Χρήση υπερήχ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Ιονανταλλαγή  και άλλ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"/>
          <p:cNvSpPr/>
          <p:nvPr/>
        </p:nvSpPr>
        <p:spPr>
          <a:xfrm>
            <a:off x="2268360" y="162720"/>
            <a:ext cx="648036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Παράδειγμα παρασκευής υποστηριζόμενου αντιδραστηρίου τριφθορομεθυλοσουλφόνυλο χαλκού υποστηριγμένου σε πυριτικό άλας [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SO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ή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Tf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lica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], για τον κατιονικό πολυμερισμό του στυρενίου.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οποθέτηση μεθανόλης σε τρίλαιμη σφαιρική φιάλη των 10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και προσθήκη μικρής ποσότητας αντιδραστηρίο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f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ροσθήκη πυριτικού άλατος αφού πρώτα υποστεί κατεργασία στους 600</a:t>
            </a:r>
            <a:r>
              <a:rPr b="0" lang="el-GR" sz="1800" spc="-1" strike="noStrike" baseline="30000">
                <a:solidFill>
                  <a:srgbClr val="000000"/>
                </a:solidFill>
                <a:latin typeface="Tahoma"/>
              </a:rPr>
              <a:t>ο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για 18 ώρ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νάδευση του μίγματος με μαγνητικό αναδευτήρα σε θερμοκρασία δωματίου και διαβίβαση αζώτου για δυόμιση ώρ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πομάκρυνση διαλύτη με θέρμανση στους 80</a:t>
            </a:r>
            <a:r>
              <a:rPr b="0" lang="el-GR" sz="1800" spc="-1" strike="noStrike" baseline="30000">
                <a:solidFill>
                  <a:srgbClr val="000000"/>
                </a:solidFill>
                <a:latin typeface="Tahoma"/>
              </a:rPr>
              <a:t>ο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για μια ώρ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ο λαμβανόμενο στερεό προϊόν, αποτελεί το υποστηριζόμενο αντιδραστήριο που χρησιμοποιείται στη συνέχει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5"/>
          <p:cNvSpPr/>
          <p:nvPr/>
        </p:nvSpPr>
        <p:spPr>
          <a:xfrm>
            <a:off x="2484360" y="873000"/>
            <a:ext cx="6335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α υποστηριζόμενα αντιδραστήρια βρίσκουν εφαρμογή σε ποικίλους τομείς της επιστήμης της Χημεία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την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οργανική σύνθεση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 είτε ως βοηθητικά  αντιδραστήρια, για την επίτευξη διαφόρων αντιδράσεων, είτε σε συνδυασμό με άλλες σύγχρονες μεθόδου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τη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ετερογενή κατάλυση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 προς αντικατάσταση μεθόδων και αντιδραστηρίων επικίνδυνων για τον άνθρωπο και το περιβάλλο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ε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διάφορες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βιομηχανικές εφαρμογέ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 όπως η ελαχιστοποίηση αποβλήτων και η καθαρή σύνθεσ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την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εκπαίδευση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 στο εργαστήριο, τόσο στην δευτεροβάθμια, όσο και στην τριτοβάθμι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5"/>
          <p:cNvSpPr/>
          <p:nvPr/>
        </p:nvSpPr>
        <p:spPr>
          <a:xfrm>
            <a:off x="2124000" y="620640"/>
            <a:ext cx="7020000" cy="60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Σύνθεση αμινοθειαζολών με μια αντίδραση 3 σταδίων σε 1 δοχεί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Οι αμινοθειαζολικοί δακτύλιοι χρησιμοποιούνται σε ιατρικές και φαρμακευτικές εφαρμογές, σε φάρμακα κατά των αλλεργιών, της υπέρτασης, των φλεγμονών, βακτηριακών λοιμώξεων κ.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Με την παραδοσιακή μέθοδο παρασκευής τους απαιτείτα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χρήση πολλών σκευ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κατανάλωση διάφορων διαλυτών, αντιδραστηρίων και  βοηθητικών μέσ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κατανάλωση μεγάλου ποσού ενέργεια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πανάληψη της διαδικασίας, για την απομόνωση των προϊόν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3" descr="one pot"/>
          <p:cNvPicPr/>
          <p:nvPr/>
        </p:nvPicPr>
        <p:blipFill>
          <a:blip r:embed="rId1"/>
          <a:stretch/>
        </p:blipFill>
        <p:spPr>
          <a:xfrm>
            <a:off x="2916360" y="2819520"/>
            <a:ext cx="5222880" cy="356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8" name="Text Box 4"/>
          <p:cNvSpPr/>
          <p:nvPr/>
        </p:nvSpPr>
        <p:spPr>
          <a:xfrm>
            <a:off x="3203640" y="3186000"/>
            <a:ext cx="2232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Tahoma"/>
              </a:rPr>
              <a:t>Παραδοσιακή μέθοδ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3203640" y="4797360"/>
            <a:ext cx="2232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Tahoma"/>
              </a:rPr>
              <a:t>Διαδικασία σε 1 δοχεί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226836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2124000" y="620640"/>
            <a:ext cx="7020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Με τη χρήση υποστηριζόμενων  επιτυγχάνετα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σταθεροποίηση των αντιδραστηρίων πάνω σε ένα στερεό υπόστρωμα, ώστε να αποφεύγεται η μεταξύ τους αντίδραση, όταν τα αντιδραστήρια συνυπάρχουν στο ίδιο μέσ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Μεγαλύτερες αποδόσεις των προϊόν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Χαμηλότερο κόστ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2268360" y="6453360"/>
            <a:ext cx="68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Σχηματική αναπαράσταση σύνθεσης αντίδρασης 3 σταδίων σε 1 δοχεί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antidrasi one pot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266920" y="692280"/>
            <a:ext cx="6769080" cy="32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4" name="Text Box 4"/>
          <p:cNvSpPr/>
          <p:nvPr/>
        </p:nvSpPr>
        <p:spPr>
          <a:xfrm>
            <a:off x="2195640" y="4869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προετοιμασία των υποστηριζόμενων αντιδραστηρίων είναι απλή και γίνεται σε χαμηλή θερμοκρασία και πίε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2195640" y="4005360"/>
            <a:ext cx="69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Σχηματική αναπαράσταση παραλαβής αμινοθειαζολικού δακτυλίου με την παραδοσιακή μέθοδο και με αντίδραση 3 σταδίων σε ένα δοχεί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7"/>
          <p:cNvSpPr/>
          <p:nvPr/>
        </p:nvSpPr>
        <p:spPr>
          <a:xfrm>
            <a:off x="2195640" y="620640"/>
            <a:ext cx="669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Ιονανταλλακτικές ρητίνες</a:t>
            </a:r>
            <a:r>
              <a:rPr b="1" i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Οι πλέον χρησιμοποιούμενες ιονανταλλακτικές ρητίνες είναι οι χρησιμοποιούμενες για τον απιονισμό του νερο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ίναι απαραίτητες για την παραγωγή νερού κατάλληλου για τις διαδικασίες της χημικής ανάλυσης και σύνθεσ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Ο ιονανταλλάκτης είναι μια κατακόρυφη στήλη που αποτελείται από σύνολο ρητινών, οι οποίες απαλλάσσουν το νερό από ανεπιθύμητα ιόντ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2268360" y="400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α νιτρικά, χλωριούχα και λοιπά ανιόντα δίνουν τη θέση τους στα  υδροξυλιόντα της παρακάτω κατιονικής ρητίνη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9" descr="ritini2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3851280" y="4724280"/>
            <a:ext cx="3168720" cy="16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9" name="Rectangle 10"/>
          <p:cNvSpPr/>
          <p:nvPr/>
        </p:nvSpPr>
        <p:spPr>
          <a:xfrm>
            <a:off x="4653000" y="6381360"/>
            <a:ext cx="169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κατιονική ρητίν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8"/>
          <p:cNvSpPr/>
          <p:nvPr/>
        </p:nvSpPr>
        <p:spPr>
          <a:xfrm>
            <a:off x="2124000" y="2060640"/>
            <a:ext cx="70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Πράσινη Χημεία είναι ο επανασχεδιασμός των χημικών προϊόντων και η παρασκευή τους με διεργασίες που ελαττώνουν ή εξαλείφουν τη χρήση και παραγωγή επικίνδυνων ουσιών για τον άνθρωπο και το περιβάλλον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4"/>
          <p:cNvSpPr/>
          <p:nvPr/>
        </p:nvSpPr>
        <p:spPr>
          <a:xfrm>
            <a:off x="2268360" y="1052280"/>
            <a:ext cx="66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ρητίνη που αναλαμβάνει την ανταλλαγή κατιόντων σιδήρου, μαγγανίου, μαγνησίου και ασβεστίου που υπάρχουν στο νερό, με κατιόντα υδρογόνου είναι σουλφονικό οξύ υποστηριγμένο σε πολυστυρένι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5" descr="figure1"/>
          <p:cNvPicPr/>
          <p:nvPr/>
        </p:nvPicPr>
        <p:blipFill>
          <a:blip r:embed="rId1"/>
          <a:stretch/>
        </p:blipFill>
        <p:spPr>
          <a:xfrm>
            <a:off x="4067280" y="2492280"/>
            <a:ext cx="2879640" cy="20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2" name="Rectangle 6"/>
          <p:cNvSpPr/>
          <p:nvPr/>
        </p:nvSpPr>
        <p:spPr>
          <a:xfrm>
            <a:off x="2340000" y="5083920"/>
            <a:ext cx="65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ρητίνη του σουλφονικού οξέος δεν είναι εκλεκτική, επομένως δε μπορεί να χρησιμοποιηθεί για την απομάκρυνση πολύ μικρών συγκεντρώσεων μεταλλικών ιόντων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4211640" y="458136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Ρητίνη σουλφονικού οξέ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7"/>
          <p:cNvSpPr/>
          <p:nvPr/>
        </p:nvSpPr>
        <p:spPr>
          <a:xfrm>
            <a:off x="2268360" y="692280"/>
            <a:ext cx="669636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Αντίδραση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uzuki - Miyaura</a:t>
            </a:r>
            <a:r>
              <a:rPr b="1" i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αντίδραση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zuki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yaura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είναι μια από τις πιο χρήσιμες αντιδράσεις δημιουργίας δεσμού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στην οργανική σύνθεσ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αράγονται διαρυλικά συστήματα με μεγάλη απόδοση, κάτω από ήπιες συνθήκες και με λίγους λειτουργικούς περιορισμού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χρήση του παλλαδίου είναι απαραίτητη για να αποκτηθούν τα επιθυμητά παράγωγα σε μεγάλη απόδο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απομάκρυνσή του όμως είναι μερικές φορές δύσκολη, γεγονός που μειώνει την καθαρότητα των προϊόντω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8" descr=""/>
          <p:cNvPicPr/>
          <p:nvPr/>
        </p:nvPicPr>
        <p:blipFill>
          <a:blip r:embed="rId1"/>
          <a:stretch/>
        </p:blipFill>
        <p:spPr>
          <a:xfrm>
            <a:off x="2232000" y="1989000"/>
            <a:ext cx="680400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6" name="Text Box 9"/>
          <p:cNvSpPr/>
          <p:nvPr/>
        </p:nvSpPr>
        <p:spPr>
          <a:xfrm>
            <a:off x="7596360" y="2924280"/>
            <a:ext cx="115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διφαινύλι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0"/>
          <p:cNvSpPr/>
          <p:nvPr/>
        </p:nvSpPr>
        <p:spPr>
          <a:xfrm>
            <a:off x="3607920" y="2924280"/>
            <a:ext cx="347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Κλασσική αντίδραση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uzuki</a:t>
            </a: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iya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" descr="suzuki"/>
          <p:cNvPicPr/>
          <p:nvPr/>
        </p:nvPicPr>
        <p:blipFill>
          <a:blip r:embed="rId1"/>
          <a:stretch/>
        </p:blipFill>
        <p:spPr>
          <a:xfrm>
            <a:off x="2411280" y="1628640"/>
            <a:ext cx="6480360" cy="17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9" name="Rectangle 10"/>
          <p:cNvSpPr/>
          <p:nvPr/>
        </p:nvSpPr>
        <p:spPr>
          <a:xfrm>
            <a:off x="2195640" y="554400"/>
            <a:ext cx="66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Ο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kegami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και οι συνεργάτες του ανέπτυξαν έναν αμφιφιλικό καταλύτη παλλαδίου υποστηριγμένο σε πολυμερές.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411280" y="4040280"/>
            <a:ext cx="6408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νσωμάτωση του παλλαδίου σε υποστηριγμένο αντιδραστήριο παρουσιάζει πλήθος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πλεονεκτημάτων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ύξηση της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αποτελεσματικότητα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της αντίδρασ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Υψηλότερη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καθαρότητα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προϊόντ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Επανάχρηση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του καταλύτ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7164360" y="3357720"/>
            <a:ext cx="18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υποκατεστημένο διαρύλι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3"/>
          <p:cNvSpPr/>
          <p:nvPr/>
        </p:nvSpPr>
        <p:spPr>
          <a:xfrm>
            <a:off x="3132000" y="33577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Αντίδραση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uzuki</a:t>
            </a: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iyaura</a:t>
            </a: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 με καταλύτ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παλλαδίου υποστηριγμένο σε πολυμερέ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7"/>
          <p:cNvSpPr/>
          <p:nvPr/>
        </p:nvSpPr>
        <p:spPr>
          <a:xfrm>
            <a:off x="2268360" y="692280"/>
            <a:ext cx="6875640" cy="61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Υποστηριζόμενα αντιδραστήρια και μικροκύμα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βοήθεια της μικροκυματικής ακτινοβολίας στην οργανική σύνθεση δημιούργησε μια ευπροσάρμοστη τεχνική για τη γρήγορη παραγωγή οργανικών μορί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Πλεονεκτήματα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υνδυασμένης χρήσης μικροκυματικής ακτινοβολίας και υποστηριζόμενων αντιδραστηρίων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Μείωση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χρόνων διεξαγωγής των αντιδράσε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ύξηση ασφάλεια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και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ποφυγή κινδύνου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ρόκλησης εκρήξεων ή υψηλών πιέσε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Αποφυγή χρήση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επικίνδυνων και δαπανηρών οργανικών     διαλυτ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Απλοποίηση διαδικασία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. Το καθαρό προϊόν παραλαμβάνεται από το μίγμα της αντίδρασης με απλή εκχύλιση ή διήθη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Χρήση ανακυκλώσιμων στερεών υποστηρικτών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ως καταλύτες και αντικατάσταση των ζημιογόνων για το περιβάλλον αντιδραστηρίων οξέων και βάσε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4"/>
          <p:cNvSpPr/>
          <p:nvPr/>
        </p:nvSpPr>
        <p:spPr>
          <a:xfrm>
            <a:off x="2268360" y="692280"/>
            <a:ext cx="66963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Η αντίδραση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Wittig </a:t>
            </a: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με μικροκύμα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tig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ίναι μία σημαντική αντίδραση για την παρασκευή αλκενίων, από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λδεΰδη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ή κετόνη, με προσθήκη υλιδίου τριφαινυλοφωσφίν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ναλλακτική μέθοδος της αντίδρασης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tig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χρησιμοποιώντας μικροκύματα και τριφαινυλοφωσφίνη υποστηριγμένη σε πολυμερέ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5" descr="μικροκ"/>
          <p:cNvPicPr/>
          <p:nvPr/>
        </p:nvPicPr>
        <p:blipFill>
          <a:blip r:embed="rId1"/>
          <a:stretch/>
        </p:blipFill>
        <p:spPr>
          <a:xfrm>
            <a:off x="2195640" y="3284640"/>
            <a:ext cx="6804000" cy="151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6" name="Rectangle 6"/>
          <p:cNvSpPr/>
          <p:nvPr/>
        </p:nvSpPr>
        <p:spPr>
          <a:xfrm>
            <a:off x="2185920" y="5528880"/>
            <a:ext cx="69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α αλκένια που παρασκευάζονται με αυτή τη μέθοδο είναι υψηλής καθαρότητ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ο παραπροϊόν του οξειδίου της τριφαινυλοφωσφίνης μένει προσαρτημένο στο πολυμερές και διηθείτα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2411280" y="4797360"/>
            <a:ext cx="20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υποστηριγμένη τριφαινυλοφωσφίν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7991640" y="486900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αλκένι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2268360" y="692280"/>
            <a:ext cx="6696360" cy="55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Ετερογενής Κατάλυ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182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Johann Wolfgang Döbereiner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δράσεις επαφή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183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ander Mitscherlich :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διαδικασίες επαφή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1836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ö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s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cob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rzelius :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περιγραφή αντιδράσεω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πιταχυνόμενων από αντιδραστήρια, τα οποία παραλαμβάνονται αναλλοίωτα μετά την αντίδρα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1880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Wilhelm Ostwald :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μελέτη διαφόρων καταλυτικών συστημάτων οξέων και βάσεων και διαπίστωση ότι με βάση το ρυθμό των αντιδράσεων που καταλύονται από οξέα ή βάσεις είναι δυνατή η διάκρισή τους σε ισχυρά και ασθενή και για αυτή την ερευνητική του εργασία βραβεύτηκε το 1909 με το Νόμπελ Χημεία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4"/>
          <p:cNvSpPr/>
          <p:nvPr/>
        </p:nvSpPr>
        <p:spPr>
          <a:xfrm>
            <a:off x="2195640" y="620640"/>
            <a:ext cx="694836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ΠΛΕΟΝΕΚΤΗΜΑΤΑ ΚΑΤΑΛΥΤΙΚΩΝ ΥΠΟΣΤΗΡΙΖΟΜΕΝΩΝ ΑΝΤΙΔΡΑΣΤΗΡΙ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υψηλή δραστικ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μεγάλη εκλεκτικ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ύκολος και ασφαλής χειρισμό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ποφυγή επικίνδυνων οργανικών διαλυτ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ύκολη ανάκτηση, ανακύκλωση, επανάχρη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2286000" y="620640"/>
            <a:ext cx="667872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Περιβαλλοντικοί καταλύτες  (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Enviroca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Ο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virocats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είναι υποστηριγμένα αντιδραστήρια που καταλύουν τις οξειδώσεις και τις αντιδράσεις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iedel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afts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(σημαντικές αντιδράσεις ηλεκτρονιόφιλης υποκατάστασης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Ο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virocats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είναι ο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PZ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1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ποτελείται από χλωριούχο ψευδάργυρο υποστηριγμένο σε μοντμοριλλονίτη, επεξεργασμένο με οξύ, γνωστό ως Κ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PZ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ίναι μία ένωση σιδήρου ,υποστηριγμένη πάνω σε πηλ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PZ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yzic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υποστηριγμένο αντιδραστήριο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ωστόσο η μέθοδος παρασκευής του είναι διαφορετική από αυτήν το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PZ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Φωσφορικό οξύ υποστηριγμένο πάνω σε πηλ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ποτελείται από χρωμιούχα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) προσροφημένα σε αργιλικό άλας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umina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2286000" y="620640"/>
            <a:ext cx="66787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Ακυλίωση ανισόλης με καταλύτη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Envirocat</a:t>
            </a: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 Ε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Z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ακυλίωση της ανισόλης με φαινυλακετυλοχλωρίδιο προς παραγωγή 4-μεθοξυδεοξυβενζόνης είναι μια αντίδραση που καταλύεται εκλεκτικά από τον καταλύτη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PZG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Κατά την αντίδραση αυτή, επιτυγχάνεται 100% μετατροπή του χλωρίδιου του οξέο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ο προϊόν διατίθεται με υψηλή καθαρότητ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envirocat133"/>
          <p:cNvPicPr/>
          <p:nvPr/>
        </p:nvPicPr>
        <p:blipFill>
          <a:blip r:embed="rId1"/>
          <a:stretch/>
        </p:blipFill>
        <p:spPr>
          <a:xfrm>
            <a:off x="2484360" y="2133720"/>
            <a:ext cx="6191280" cy="134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4" name="Picture 6" descr="envirocat134"/>
          <p:cNvPicPr/>
          <p:nvPr/>
        </p:nvPicPr>
        <p:blipFill>
          <a:blip r:embed="rId2"/>
          <a:stretch/>
        </p:blipFill>
        <p:spPr>
          <a:xfrm>
            <a:off x="5580000" y="5019840"/>
            <a:ext cx="324000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5" name="Text Box 9"/>
          <p:cNvSpPr/>
          <p:nvPr/>
        </p:nvSpPr>
        <p:spPr>
          <a:xfrm>
            <a:off x="6156360" y="350028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4-μεθοξυ-δεοξυβενζόν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2124000" y="5229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κετόνη που παράγεται είναι ενδιάμεση ένωση για την παρασκευή του αντικαρκινικού φαρμάκο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moxife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4500720" y="6237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4"/>
          <p:cNvSpPr/>
          <p:nvPr/>
        </p:nvSpPr>
        <p:spPr>
          <a:xfrm>
            <a:off x="2268360" y="692280"/>
            <a:ext cx="687564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Εκλεκτική Οξείδωση Αλκοολ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Παραδοσιακά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:  με ανόργανα οξειδωτικά αντιδραστήρια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Cr(VI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Μειονεκτήματα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: απαίτηση στοιχειομετρικής ποσότητ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υξημένο κόστ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αραγωγή μεγάλων ποσοτήτων αποβλή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Πράσινα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: με συνδυασμένη χρήση της σταθερής νιτροξυλικής ρίζας  2,2,6,6-τετραμέθυλο-1-οξο-πιπεριδίνης (ΤΕΜΡ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ΤΕΜΡΟ και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Ru, Cu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: αδυναμία οξείδωσης αλειφατικών και δευτεροταγών αλκοολών, απαίτηση υψηλών θερμοκρασιών, μερική αποσύνθεση του ΤΕΜΡ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MPO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και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II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: επίλυση μερικών από τις προηγούμενες αδυναμίες, μερική αποσύνθεση του ΤΕΜΡ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Υποστηριζόμενο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MPO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με μοριακό οξυγόνο και άλατα μεταβατικών μετάλλων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: μερική αποσύνθεση ΤΕΜΡ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Αερόβια οξείδωση αλκοολών με ΤΕΜΡΟ, χωρίς μέταλλα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: μεγάλο κόστος συσκευής, μεγάλη απαιτούμενη ποσότητα ΤΕΜΡΟ, υψηλές θερμοκρασίες και πιέσεις, χρήση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2195640" y="115920"/>
            <a:ext cx="6948360" cy="70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Οι δώδεκα αρχές της πράσινης χημείας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Πρόληψη της παραγωγής αποβλήτων, παρά η επεξεργασία τους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Σχεδιασμός συνθετικών μεθόδων με τη μεγαλύτερη ενσωμάτωση όλων των χρησιμοποιούμενων ατόμων των αντιδρώντων στο τελικό προϊό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Παραγωγή χημικών ουσιών με μικρή ή μηδενική τοξικότητα για τον άνθρωπο ή το περιβάλλο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Σχεδιασμός προϊόντων το ίδιο λειτουργικά, αλλά όσο το δυνατό λιγότερο τοξικ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Χρήση μη τοξικών και επικίνδυνων βοηθητικών ουσιών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Αναγνώριση και ελαχιστοποίηση των ενεργειακών αναγκώ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Χρήση ανανεώσιμων πρώτων υλώ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Αποφυγή της άσκοπης παραγωγοποίηση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Χρήση καταλυτικών αντιδραστηρίων, αντί για στοιχειομετρικά.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Σχεδιασμός και παραγωγή αποικοδομήσιμων προϊόντ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Έλεγχος και παρακολούθηση των αναλυτικών διαδικασιών, ώστε να αποφεύγεται ο σχηματισμός επικίνδυνων προϊόντω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</a:rPr>
              <a:t>Ασφαλής χειρισμός αντιδραστηρίων και μεθόδων, προς αποφυγή χημικών ατυχημάτων.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4" descr="Tempo"/>
          <p:cNvPicPr/>
          <p:nvPr/>
        </p:nvPicPr>
        <p:blipFill>
          <a:blip r:embed="rId1"/>
          <a:stretch/>
        </p:blipFill>
        <p:spPr>
          <a:xfrm>
            <a:off x="2556000" y="3716280"/>
            <a:ext cx="5789520" cy="185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0" name="Text Box 7"/>
          <p:cNvSpPr/>
          <p:nvPr/>
        </p:nvSpPr>
        <p:spPr>
          <a:xfrm>
            <a:off x="2124000" y="476280"/>
            <a:ext cx="70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2268360" y="692280"/>
            <a:ext cx="687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Με χρήση ποικίλων υποστρωμάτων με συγκεκριμένα χαρακτηριστικά επιλύονται πολλές από τις βασικές δυσκολίες και μειονεκτήματα που αναφέρθηκαν προηγουμένω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ροϋποθέσεις υποστρωμάτω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μεσαίο μέγεθος πόρων 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CM-41, SB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χετικά ομοιόμορφη κατανομή πόρων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-30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μεγάλο κενό μεταξύ των πόρ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μεγάλη επιφάνεια επαφή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2484360" y="5661000"/>
            <a:ext cx="59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Υποστηριζόμενο ΤΕΜΡΟ σε υπόστρωμα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BA-15 (</a:t>
            </a: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υπόστρωμα με κύριο συστατικό την αλουμίν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2195640" y="549360"/>
            <a:ext cx="7129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Πλεονεκτήματ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Εκλεκτικό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και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αποτελεσματικό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καταλύτης για την αερόβια οξείδωση πρωτοταγών, δευτεροταγών και στερεοχημικά παρεμποδισμένων αλκοολ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υξημένη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δραστικότητα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 σχετικά με την εκλεκτική οξείδωση αλκοολών, συγκριτικά με τις άλλες μορφές του ΤΕΜΡ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Μεγάλη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ανοχή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σε διδραστικές αλκοόλ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Μη απώλεια δραστικότητά του παρουσία υποστρωμάτων με άζωτο ή θεί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Ανθεκτικό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καταλύτ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Όχι σημαντική μεταβολή στη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δομή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του μετά από πολλές χρήσει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2268360" y="692280"/>
            <a:ext cx="6696360" cy="60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Ελαχιστοποίηση αποβλή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υπερβολική παραγωγή αποβλήτων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στις σύγχρονες κοινωνίες οφείλεται σε τρεις βασικούς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παράγοντε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3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νεπαρκής εφαρμογή της τεχνολογί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3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Λανθασμένος σχεδιασμός της παραγωγής</a:t>
            </a: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3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Υπερκατανάλωσ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Οι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τεχνικέ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που αναπτύσσονται για την ελαχιστοποίηση των αποβλήτων</a:t>
            </a: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ίνα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ντιστρέψιμη διαχείριση και βελτιστοποίηση διαδικασιών</a:t>
            </a: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Μετατροπές / αλλαγές στον εξοπλισμ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λλαγές στη διαδικασία παραγωγής</a:t>
            </a: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νακύκλωση και επανάχρησ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2268360" y="692280"/>
            <a:ext cx="6696360" cy="61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Καθαρή σύνθε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Συνεχής εφαρμογή μιας προληπτικής περιβαλλοντικής τακτικής, τόσο σε διαδικασίες όσο και σε προϊόντα, ώστε να ελαττωθεί ο κίνδυνος προς τον άνθρωπο και το περιβάλλον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»</a:t>
            </a: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Εξυγίανση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: επιδιόρθωση ζημιάς που προκλήθηκε στο παρελθόν από ανθρώπινη δραστηρι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Τεχνολογία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Καθαρισμού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: μείωση της περιβαλλοντικής ζημιά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Καθαρή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Τεχνολογία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: περιβαλλοντική ρύπανση στην πηγή της δημιουργίας τη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Οι καθαρές διαδικασίες είναι δυνατό να επιτευχθούν μέσω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.  καταλυτικών συστημά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.  εναλλακτικής σύνθεσ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3.  ελάττωσης των βημάτων σύνθεσ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4.  εξάλειψης της ανάγκης αποθήκευσης ή μεταφοράς τοξικών ενδιάμεσων προϊόντων ή αντιδραστηρί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5.  καινοτόμων μεθόδων απόδοσης ενέργειας</a:t>
            </a: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4"/>
          <p:cNvSpPr/>
          <p:nvPr/>
        </p:nvSpPr>
        <p:spPr>
          <a:xfrm>
            <a:off x="2268360" y="692280"/>
            <a:ext cx="6696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Για να γίνει η μετάβαση από τη θεωρία στην πράξη είναι απαραίτητη η ενσωμάτωση της Πράσινης Χημείας στα Αναλυτικά Προγράμματα Σπουδών της δευτεροβάθμιας και τριτοβάθμιας εκπαίδευση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Η εισαγωγή πράσινων μεθοδολογιών και συγκεκριμένα των υποστηριζόμενων αντιδραστηρίων εξασφαλίζε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χαμηλό κόστο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 με μείωση της απαίτησης για ενέργεια, αντιδραστήρια και εξοπλισμ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ελαχιστοποίηση των κινδύνων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 με αντικατάσταση επικίνδυνων διαλυτών και αντιδραστηρίων με ακίνδυνα, καθώς και με την εφαρμογή ήπιων συνθηκών διεξαγωγής των πειραμά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έμφαση στις αρχέ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της πράσινης χημείας, όπως η καθαρή σύνθεση, η οικονομία ατόμου, η χρήση ανανεώσιμων πρώτων υλ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ευέλικτο πειραματικό σχεδιασμ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υκαιρία για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διαδραστική συμμετοχή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των μαθητ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39"/>
          <p:cNvSpPr/>
          <p:nvPr/>
        </p:nvSpPr>
        <p:spPr>
          <a:xfrm>
            <a:off x="2124000" y="692280"/>
            <a:ext cx="702000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Αλδολική συμπύκνωσ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Βενζαλδε</a:t>
            </a:r>
            <a:r>
              <a:rPr b="1" i="1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ΰ</a:t>
            </a: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δης -  Κυκλοεξανόν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το προπτυχιακό εργαστήριο Οργανικής Χημείας Ι του Αριστοτέλειου Πανεπιστημίου Θεσσαλονίκης, έγινε η αντικατάσταση της παραδοσιακής αντίδρασης αλδολικής συμπύκνωσης της βενζαλδε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ΰδης και κυκλοεξανόνης με μια πράσινη με χρήση υποστηριζόμενου ΚΟΗ σε αλούμιν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0" descr="untitled"/>
          <p:cNvPicPr/>
          <p:nvPr/>
        </p:nvPicPr>
        <p:blipFill>
          <a:blip r:embed="rId1"/>
          <a:stretch/>
        </p:blipFill>
        <p:spPr>
          <a:xfrm>
            <a:off x="2325600" y="3213000"/>
            <a:ext cx="6639120" cy="8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9" name="Text Box 41"/>
          <p:cNvSpPr/>
          <p:nvPr/>
        </p:nvSpPr>
        <p:spPr>
          <a:xfrm>
            <a:off x="3132000" y="4149720"/>
            <a:ext cx="49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Αλδολική συμπύκνωση βενζαλδε</a:t>
            </a:r>
            <a:r>
              <a:rPr b="0" i="1" lang="el-GR" sz="1600" spc="-1" strike="noStrike">
                <a:solidFill>
                  <a:srgbClr val="000000"/>
                </a:solidFill>
                <a:latin typeface="Tahoma"/>
                <a:ea typeface="Arial"/>
              </a:rPr>
              <a:t>ΰ</a:t>
            </a: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δης-κυκλοεξανόνη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2"/>
          <p:cNvSpPr/>
          <p:nvPr/>
        </p:nvSpPr>
        <p:spPr>
          <a:xfrm>
            <a:off x="2195640" y="484344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λεονεκτήματ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ύκολη προετοιμασία και χειρισμός του υποστηριζόμενου αντιδραστηρίο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η μικρών ποσοτήτων των αντιδραστηρί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αμηλή θερμοκρασ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ύκολος χειρισμό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P1020019"/>
          <p:cNvPicPr/>
          <p:nvPr/>
        </p:nvPicPr>
        <p:blipFill>
          <a:blip r:embed="rId1"/>
          <a:stretch/>
        </p:blipFill>
        <p:spPr>
          <a:xfrm>
            <a:off x="3059280" y="1989000"/>
            <a:ext cx="2895480" cy="3861000"/>
          </a:xfrm>
          <a:prstGeom prst="rect">
            <a:avLst/>
          </a:prstGeom>
          <a:ln w="0">
            <a:noFill/>
          </a:ln>
        </p:spPr>
      </p:pic>
      <p:sp>
        <p:nvSpPr>
          <p:cNvPr id="582" name="WordArt 6"/>
          <p:cNvSpPr txBox="1"/>
          <p:nvPr/>
        </p:nvSpPr>
        <p:spPr>
          <a:xfrm>
            <a:off x="900000" y="765000"/>
            <a:ext cx="7236000" cy="316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4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Ευχαριστούμε για την προσοχή σας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4"/>
          <p:cNvSpPr/>
          <p:nvPr/>
        </p:nvSpPr>
        <p:spPr>
          <a:xfrm>
            <a:off x="2195640" y="564480"/>
            <a:ext cx="6769080" cy="60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ahoma"/>
              </a:rPr>
              <a:t>Εργαλεία της Πράσινης Χημε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α μέσα που επιστρατεύει η Πράσινη Χημεία για την επίτευξη των στόχων της είνα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ναλλακτικές πρώτες ύλ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ναλλακτικά αντιδραστήρι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ναλλακτικοί διαλύτ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ναλλακτικό προϊόν /μόριο-στόχ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ναλυτική χημεία τω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διεργασι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ναλλακτικοί καταλύτ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κτίμηση κύκλου ζωή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2195640" y="556200"/>
            <a:ext cx="662436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Ένα από τα εργαλεία της Πράσινης Χημείας είναι και τ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υποστηριζόμενα αντιδραστήρι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orted reag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ο 1924 πρωτοσυναντάται η έννοια των υποστηριζόμενων αντιδραστηρίω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ο 1968, στην εργασία το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tizon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περιγράφεται αναλυτικά χρήση υποστηριζόμενου αντιδραστηρίο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Τα υποστηριζόμενα αντιδραστήρια είναι αντιδραστήρια τα οποία στερεώνονται πάνω σε κάποιο αδιάλυτο υποστηρικτικό μέσο, είτε με απορρόφηση, είτε με διασπορά είτε με επίστρωση.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4"/>
          <p:cNvSpPr/>
          <p:nvPr/>
        </p:nvSpPr>
        <p:spPr>
          <a:xfrm>
            <a:off x="2195640" y="836640"/>
            <a:ext cx="6948360" cy="44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Συνήθως χρησιμοποιούνται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αλούμινα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∙ (Η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Ο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n  , n=0-3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σίλικα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O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(Η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Ο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) 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ζεόλιθο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πηλοί ή μοντμοριλλονίτ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άνθρακα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coal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συνδυασμό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του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α ανόργανα υποστρώματα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έχουν μεγάλη επιφάνεια επαφής (100 - 100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l-GR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l-GR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είναι συνήθως πορώδη (0.3 - 10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m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ο μέγεθος των σωματιδίων μπορεί πάρει πολύ ακραίες τιμέ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2124000" y="836640"/>
            <a:ext cx="702000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Προϋπόθεση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για να επιλεγεί ένα υλικό ως υπόστρωμα είναι το να είναι </a:t>
            </a: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αδιάλυτο στα συνήθη μέσα, όπου διεξάγονται οι αντιδράσει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α ανόργανα υποστρώματα διακρίνονται στις κατηγορίε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κρυσταλλικά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 με κανονική κατανομή μεγέθους των πόρων, όπως οι ζεόλιθο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άμορφα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 με πιθανά μεγάλη ποικιλία όσον αφορά στη δομή των πόρων και με σχετικά μικρή κατανομή μεγέθους των πόρων, όπως τα συμβατικά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lica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3. με ευέλικτη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διαστρωματωμένη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δομή, όπως οι πηλοί, μοντμοριλλονίτ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2124000" y="765000"/>
            <a:ext cx="684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α οργανικά υποστρώματα είναι οργανικά πολυμερή με καθορισμένη σύσταση και μορφολογί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νάλογα με την εφαρμογή τους </a:t>
            </a: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διακρίνονται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σ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γραμμικά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 με ευρύ φάσμα μοριακού βάρου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διασταυρωμένα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πολυμερ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χωρίς τίτλο"/>
          <p:cNvPicPr/>
          <p:nvPr/>
        </p:nvPicPr>
        <p:blipFill>
          <a:blip r:embed="rId1"/>
          <a:stretch/>
        </p:blipFill>
        <p:spPr>
          <a:xfrm>
            <a:off x="2556000" y="2781360"/>
            <a:ext cx="5905440" cy="221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5" name="Rectangle 6"/>
          <p:cNvSpPr/>
          <p:nvPr/>
        </p:nvSpPr>
        <p:spPr>
          <a:xfrm>
            <a:off x="2700360" y="5086440"/>
            <a:ext cx="54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Τύποι πολυμερών υποστρωμάτω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α) ζελατινώδης τύπος 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el type</a:t>
            </a: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) β) μακροπορώδης τύπ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2268360" y="595008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ρίσκονται με τη μορφή σφαιρικών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χαντρών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ε διάμετρο από 10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έω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mm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6"/>
          <p:cNvSpPr/>
          <p:nvPr/>
        </p:nvSpPr>
        <p:spPr>
          <a:xfrm>
            <a:off x="2268360" y="5497560"/>
            <a:ext cx="68756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Το πιο γνωστό πολυμερές είναι αυτό το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rifield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 ένα ζελατινώδες χλωρομεθυλιωμένο πολυστυρένιο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) με το οποίο πραγματοποιήθηκε η πρώτη επιτυχής σύνθεση πολυπεπτιδίων το 196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2340000" y="3147840"/>
            <a:ext cx="64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Οργανικά υποστρώματα, μπορούν να αποτελέσουν κυρίως 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Πολυστυρένι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Ακρυλοπολυμερ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Πολυβινυλοπυριδίν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Πολυβενζιμιδαζόλ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Χλωροφθοροπλυμερ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ahoma"/>
              </a:rPr>
              <a:t>Πολυφωσφαζένια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9"/>
          <p:cNvSpPr/>
          <p:nvPr/>
        </p:nvSpPr>
        <p:spPr>
          <a:xfrm>
            <a:off x="2268360" y="692280"/>
            <a:ext cx="66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προϋποθέσει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ου πρέπει να πληρούν είναι ν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ίναι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διάλυτα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στους διαλύτες που συμμετέχουν στην αντίδρα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ιαθέτουν θερμική και μηχανική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ταθερ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ίναι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χημικά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δραν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ναγεννώνται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εύκολα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ετά το πέρας της αντίδρασ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χουν τη δυνατότητα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ικανοποιητική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ιασπορά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των διαλυτών και αντιδρώντων στην επιφάνειά του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8:02:13Z</dcterms:created>
  <dc:creator>xristina</dc:creator>
  <dc:description/>
  <dc:language>en-US</dc:language>
  <cp:lastModifiedBy>Dimitris Giannakoudakis</cp:lastModifiedBy>
  <dcterms:modified xsi:type="dcterms:W3CDTF">2012-03-01T23:51:19Z</dcterms:modified>
  <cp:revision>31</cp:revision>
  <dc:subject/>
  <dc:title>Διαφάνεια 1</dc:title>
</cp:coreProperties>
</file>